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7CBA-1016-454B-8D8D-ED4F1293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84E-3177-4942-B2DB-5E77A73A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FA2-19EC-4031-B81D-F86608DA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6AD7-9C45-408A-A103-0AA29A7F4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0198-C681-41EF-9CA1-C43DDA22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BA2-1713-4ADD-A64B-ACFFD852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9F88-A560-4EF4-93EE-84FBC6CF7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1C61-0E41-4215-B4F0-E3107E7C0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6B45-2F02-4019-84A0-7A6C99EE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8DA6-80AA-4B6D-A39A-00FC7221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E22-9F86-44B2-9842-4293022A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CBAB-10B0-4549-8E58-FF5B2CB9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F0D6-6DFD-4C15-92D4-D1717C57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520" y="2895480"/>
            <a:ext cx="5486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DIERD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Personnel Readiness Data From The Unit Status Repor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US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ACTICAL EXERCIS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112860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6104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3168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168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63360" y="-11177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61920" y="7292880"/>
            <a:ext cx="18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63360" y="17668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533520"/>
            <a:ext cx="8610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06440" y="228600"/>
            <a:ext cx="84279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86800" cy="66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647200" cy="57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57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54:04Z</dcterms:created>
  <dc:creator>mike.a.williams</dc:creator>
  <dc:description/>
  <dc:language>en-US</dc:language>
  <cp:lastModifiedBy>Administrator</cp:lastModifiedBy>
  <dcterms:modified xsi:type="dcterms:W3CDTF">2005-07-08T21:05:05Z</dcterms:modified>
  <cp:revision>9</cp:revision>
  <dc:subject/>
  <dc:title>Slide 1</dc:title>
</cp:coreProperties>
</file>